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3A9-2F6E-4ECD-A993-BCF1D93C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356-CD58-4B1A-91DC-B68DC6BA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7AA5-50F6-4D51-8FE8-145EF01F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E2C5-A0C1-48D1-B9CC-51C8E0C4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2213-F0BA-4FDC-A4D0-B775A6E0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CB5-F3D3-4DB8-AC0F-7589ABBF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DA1-3FF3-45DF-8B1E-8BD085F1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CB7-ADA8-46AD-9C71-8A2D3CEC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70CA-D93B-4A03-95AF-E012F8EC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E15-DE61-4829-A012-54261FE8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763-938E-4076-B7FD-B0EB03FE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C57-EB19-4DDB-AF1B-5A5BDF6F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DCC1-6324-47B6-83F3-41F510190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slide13.xml"/><Relationship Id="rId21" Type="http://schemas.openxmlformats.org/officeDocument/2006/relationships/slide" Target=""/><Relationship Id="rId22" Type="http://schemas.openxmlformats.org/officeDocument/2006/relationships/slide" Target="slide9.xml"/><Relationship Id="rId23" Type="http://schemas.openxmlformats.org/officeDocument/2006/relationships/slide" Target=""/><Relationship Id="rId24" Type="http://schemas.openxmlformats.org/officeDocument/2006/relationships/slide" Target="slide17.xml"/><Relationship Id="rId25" Type="http://schemas.openxmlformats.org/officeDocument/2006/relationships/slide" Target=""/><Relationship Id="rId26" Type="http://schemas.openxmlformats.org/officeDocument/2006/relationships/slide" Target="slide7.xml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slide19.xml"/><Relationship Id="rId30" Type="http://schemas.openxmlformats.org/officeDocument/2006/relationships/slide" Target=""/><Relationship Id="rId31" Type="http://schemas.openxmlformats.org/officeDocument/2006/relationships/slide" Target="slide20.xml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slide3.xml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772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250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25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of &lt;5,-1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5/13,-12/13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Point:  (1.64,7.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inal Point:  (-2.33,3.8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-3.97,-3.35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v=&lt;6,0&gt; find llv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0492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u=&lt;5,3&gt; and v=&lt;-4,0&gt; find 2u -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14,6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of &lt;8,-2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29/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-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29/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5486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-5,1&gt;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90920" y="1143000"/>
            <a:ext cx="3862440" cy="3962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 flipV="1">
            <a:off x="3504960" y="3657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v=&lt;3,4&gt; what is llv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u=&lt;5,3&gt; and v=&lt;-4,0&gt; find 3u - 2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23,9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of i-2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5/5,-2√5/5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Point:  (-4.2,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l Point:  (3.7,-12.9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7.9,-17.9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880"/>
            <a:ext cx="1600200" cy="5806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onent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380880"/>
            <a:ext cx="1752480" cy="337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380880"/>
            <a:ext cx="1600200" cy="6426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ctor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380880"/>
            <a:ext cx="1752840" cy="3070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it V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0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3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4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5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7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8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0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2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3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v = &lt;-24,-7&gt; what is llv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u=2i-5j and v=-3i+4j find u +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–i-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-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19810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of -3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Point (-3,11) Terminal Point (9,40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12,29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v=&lt;2,3&gt; find llv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1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u=&lt;8,-3&gt; what is –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1323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&lt;-8,3&gt;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a unit vector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rection of &lt;0,-3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&lt;0,-1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2,3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62320" y="1219320"/>
            <a:ext cx="3789360" cy="3886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3276720" y="2361960"/>
            <a:ext cx="6094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v=&lt;2,4&gt; what is llvl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28600"/>
            <a:ext cx="716256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u=&lt;5,3&gt; and v=&lt;-4,0&gt; find u +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1,3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abeason</cp:lastModifiedBy>
  <cp:lastPrinted>2001-01-31T16:21:13Z</cp:lastPrinted>
  <dcterms:modified xsi:type="dcterms:W3CDTF">2009-02-26T19:12:11Z</dcterms:modified>
  <cp:revision>80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